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C15-0CAE-4881-A229-67C31ED9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AC56-0D01-4590-92F6-D6290139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097-7456-431A-A8C2-A89CAE18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5EE4-EDB6-4621-8B28-C2C5EEBD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25355-F35D-4D80-8A83-64D7139EF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1694-B8C4-4E28-8E6E-022D50C5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9006-884C-4DB2-922F-C56CE12E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FDDD-A246-40AE-B41D-0769A2175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42FE-48C7-4F85-B9EE-482354E7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B8F6A-A232-48DE-A907-E6247E82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3816-D201-4493-92EE-21FF46F2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3654-6BF4-403F-9E90-DA22D035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DB68-EA8E-47A5-99AA-42FACABB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F0B1-C4F8-483E-B4C1-F53416D9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BFFF-1104-477C-BACF-F3A86FCE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4735-45E3-4494-9536-C7CF0BBD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10C3-3FBA-4BA3-BD42-FF04B8B0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E3E-AB7E-4D48-B1E6-0E7D0FF4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74F2-DEB8-4C91-8F5C-724A1ED6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C3EA-F140-4560-8010-AC9E7B8F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A28-7987-4E78-B848-957426E5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FDB-0C7B-41E6-BFB0-7D5785B7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041-957D-458E-A78A-EF8DD41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7FA-F9F2-4D40-9CEF-1DF4DDAA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BCC3-F9DE-478B-8893-009C9E6E72F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F121-DF67-4D2D-99E8-03585AF7BC22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gram Evaluation Ov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 Eval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ludes examining and describing the context of th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gram being evaluated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ducting a needs and goals assessment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rmining the objectives of the program, 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rmining whether the proposed objectives will be sufficiently responsive to the identified needs. It helps in making program planning decis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put Eval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cludes activities such as a description of the program inputs a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source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comparison of how the program might perform compared to oth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ograms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 prospective benefit/cost assessment (i.e., decide whether you thin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he benefits will outweigh the costs, before it is actually implemented)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 evaluation of the proposed design of the program, 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n examination of what alternative strategies and procedures should be considered and recommended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 short, this type of evaluation examines what the program plans on doing. It helps in making program structuring decis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cess Eval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cludes examining how a program is being implemented,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onitoring how the program is performing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uditing the program to make sure it is following required legal and ethical guidelines, and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dentifying defects in the procedural design or in the implementation of the program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t is here that evaluators provide information about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is actually occurring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in the program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valuators typically provide this kind of feedback to program personnel because it can be helpful in making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formative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evaluation decisions (i.e., decisions about how to modify or improve the program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 general, process evaluation helps in making implementing decisi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duct Eval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ludes determining and examining the general and specific outcomes of the program (using impact or outcome assessment techniques)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asuring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nticipat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outcomes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ttempting to identify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unanticipate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outcomes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ssessing the merit of the program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ducting a retrospective benefit/cost assessment (to establish actual worth or value), and/or conducting a cost effectiveness assessment (to determine if the program is cost effective compared to other similar programs)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duct evaluation is very helpful in making summative evaluation decisions (e.g., What is the merit and worth of th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gram? Should it be continued?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s of Program Evalu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ystematic collection of information abut the activities, characteristics, and outcome of program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use by specific people to reduce uncertainties, improve effectiveness, and make decisions with regard to what those programs are doing and affect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Patton, 1986).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finitions of Program Eval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ablish and provide useful information for judging decision alternatives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ist an audience to judge and improve the worth of some educational program or object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ist the improvement of policies and program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fflebe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urpose of Program Eval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mpr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int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jectives of Program Evalu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ver whether and how effectively the objectives are being m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ver unplanned and unexpected consequ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termine underlying policies and related activities that contribute to success or failure in particular area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vide continuous feedbac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ontext, Input, Process, and Product</a:t>
            </a:r>
            <a:br>
              <a:rPr sz="3600"/>
            </a:b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Evalu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he CIPP Model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838080" y="2209680"/>
          <a:ext cx="7693200" cy="4620960"/>
        </p:xfrm>
        <a:graphic>
          <a:graphicData uri="http://schemas.openxmlformats.org/drawingml/2006/table">
            <a:tbl>
              <a:tblPr/>
              <a:tblGrid>
                <a:gridCol w="2563920"/>
                <a:gridCol w="2565360"/>
                <a:gridCol w="2563920"/>
              </a:tblGrid>
              <a:tr h="84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pect of evaluation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ype of decision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Kind of question answered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tex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lanning decisions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hat should we do?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4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pu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ructuring decisions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ow should we do it?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2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cess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mplementing decisions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re we doing it as planned? And if not, why not?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4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duct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cycling decisions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id it work?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IPP Mode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mple systems model applied to program eval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ntex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aluation,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inp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aluation,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ces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aluation, and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evaluatio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se types are typically viewed as separate forms of evaluation, b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can also be viewed as steps or stages in a comprehensive eval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Formative 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Arial"/>
              </a:rPr>
              <a:t>&lt;      ---------       &gt; 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ummative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04812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the CIPP model, there is a clear distinction betwe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mativ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ion (conducted for the purpose of improving the program) a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ummativ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ion (conducted for the purpose of accountability which requires determining the overall effectiveness or merit of the program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9:22:33Z</dcterms:created>
  <dc:creator>Administrator</dc:creator>
  <dc:description/>
  <dc:language>en-US</dc:language>
  <cp:lastModifiedBy>Administrator</cp:lastModifiedBy>
  <dcterms:modified xsi:type="dcterms:W3CDTF">2009-03-26T21:45:27Z</dcterms:modified>
  <cp:revision>4</cp:revision>
  <dc:subject/>
  <dc:title>Context, Input, Process, and Product Evalu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  <property fmtid="{D5CDD505-2E9C-101B-9397-08002B2CF9AE}" pid="3" name="_AdHocReviewCycleID">
    <vt:r8>1961798137</vt:r8>
  </property>
  <property fmtid="{D5CDD505-2E9C-101B-9397-08002B2CF9AE}" pid="4" name="_AuthorEmail">
    <vt:lpwstr>Thomas.DiPaola@jwu.edu</vt:lpwstr>
  </property>
  <property fmtid="{D5CDD505-2E9C-101B-9397-08002B2CF9AE}" pid="5" name="_AuthorEmailDisplayName">
    <vt:lpwstr>Thomas DiPaola</vt:lpwstr>
  </property>
  <property fmtid="{D5CDD505-2E9C-101B-9397-08002B2CF9AE}" pid="6" name="_EmailSubject">
    <vt:lpwstr>slides</vt:lpwstr>
  </property>
</Properties>
</file>